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360"/>
            <a:ext cx="300528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27240" y="-360"/>
            <a:ext cx="3004920" cy="46188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58840" y="691920"/>
            <a:ext cx="4616640" cy="34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93720" y="4386240"/>
            <a:ext cx="5546880" cy="415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8769240"/>
            <a:ext cx="3005280" cy="462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27240" y="8769240"/>
            <a:ext cx="3004920" cy="4622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90B9BE-6DF6-4A3B-A90E-0AF37E5A5E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8840" y="692280"/>
            <a:ext cx="4616640" cy="3462120"/>
          </a:xfrm>
          <a:prstGeom prst="rect">
            <a:avLst/>
          </a:prstGeom>
          <a:ln w="0">
            <a:noFill/>
          </a:ln>
        </p:spPr>
      </p:sp>
      <p:sp>
        <p:nvSpPr>
          <p:cNvPr id="161"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inviting me here today. It’s always a pleasure to meet with other health care professionals, particularly when the idea of a team approach to health care is attracting such interest. </a:t>
            </a:r>
            <a:endParaRPr b="0" lang="en-US" sz="1200" spc="-1" strike="noStrike">
              <a:solidFill>
                <a:srgbClr val="000000"/>
              </a:solidFill>
              <a:latin typeface="Calibri"/>
            </a:endParaRPr>
          </a:p>
        </p:txBody>
      </p:sp>
      <p:sp>
        <p:nvSpPr>
          <p:cNvPr id="16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BC884-8A37-4DCC-9449-6454D6A4D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8840" y="692280"/>
            <a:ext cx="4616640" cy="3462120"/>
          </a:xfrm>
          <a:prstGeom prst="rect">
            <a:avLst/>
          </a:prstGeom>
          <a:ln w="0">
            <a:noFill/>
          </a:ln>
        </p:spPr>
      </p:sp>
      <p:sp>
        <p:nvSpPr>
          <p:cNvPr id="18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ong growth of the PA profession has meant greater utilization of many procedures by PAs, including ultrasound. Point-of-care ultrasound is particularly useful for PAs because it can be immediately utilized as a diagnostic tool during the patient visit. PAs in ob/gyn report frequent use of ultrasound, as shown by a 2000 survey conducted by the American Association of PAs in Obstetrics and Gynecology.</a:t>
            </a:r>
            <a:endParaRPr b="0" lang="en-US" sz="1200" spc="-1" strike="noStrike">
              <a:solidFill>
                <a:srgbClr val="000000"/>
              </a:solidFill>
              <a:latin typeface="Calibri"/>
            </a:endParaRPr>
          </a:p>
        </p:txBody>
      </p:sp>
      <p:sp>
        <p:nvSpPr>
          <p:cNvPr id="189"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0FB240-C115-41B5-AB0C-07CFEB11D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58840" y="692280"/>
            <a:ext cx="4616640" cy="3462120"/>
          </a:xfrm>
          <a:prstGeom prst="rect">
            <a:avLst/>
          </a:prstGeom>
          <a:ln w="0">
            <a:noFill/>
          </a:ln>
        </p:spPr>
      </p:sp>
      <p:sp>
        <p:nvSpPr>
          <p:cNvPr id="191"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rasound is being utilized by PAs on the battlefield as well. Nine portable ultrasound units were sent to Afghanistan last year. Ultrasound was already widely used by the Army, but the Army reports that the portable machines are particularly valuable because they provide imaging capability on the battlefield. A PA was involved in training Special Forces medics to use the mach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Electric last year identified PAs as a target market for its Vscan handheld ultrasound device, which allows providers to utilize ultrasound in the office, without sending patients to a specialist or other location. GE said the device could be valuable to providers who practice in remote or rural areas, as many PAs do.</a:t>
            </a:r>
            <a:endParaRPr b="0" lang="en-US" sz="1200" spc="-1" strike="noStrike">
              <a:solidFill>
                <a:srgbClr val="000000"/>
              </a:solidFill>
              <a:latin typeface="Calibri"/>
            </a:endParaRPr>
          </a:p>
        </p:txBody>
      </p:sp>
      <p:sp>
        <p:nvSpPr>
          <p:cNvPr id="192"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BA531-3D3F-4D05-A1E9-2D71CADC41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8840" y="692280"/>
            <a:ext cx="4616640" cy="3462120"/>
          </a:xfrm>
          <a:prstGeom prst="rect">
            <a:avLst/>
          </a:prstGeom>
          <a:ln w="0">
            <a:noFill/>
          </a:ln>
        </p:spPr>
      </p:sp>
      <p:sp>
        <p:nvSpPr>
          <p:cNvPr id="194"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American Journal of Gastroenterology </a:t>
            </a:r>
            <a:r>
              <a:rPr b="0" lang="en-US" sz="1200" spc="-1" strike="noStrike">
                <a:solidFill>
                  <a:srgbClr val="000000"/>
                </a:solidFill>
                <a:latin typeface="Calibri"/>
              </a:rPr>
              <a:t>in 2002 published a study of 1,086 consecutive percutaneous liver biopsies conducted by a PA at a single location between June 1996 and June 2000. The study concluded that “outpatient percutaneous liver biopsy can be safely and effectively performed by a trained physician assistant.”</a:t>
            </a:r>
            <a:endParaRPr b="0" lang="en-US" sz="1200" spc="-1" strike="noStrike">
              <a:solidFill>
                <a:srgbClr val="000000"/>
              </a:solidFill>
              <a:latin typeface="Calibri"/>
            </a:endParaRPr>
          </a:p>
        </p:txBody>
      </p:sp>
      <p:sp>
        <p:nvSpPr>
          <p:cNvPr id="19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6A1B6-2DDB-4CAC-823D-7B2AA7D8F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58840" y="692280"/>
            <a:ext cx="4616640" cy="3462120"/>
          </a:xfrm>
          <a:prstGeom prst="rect">
            <a:avLst/>
          </a:prstGeom>
          <a:ln w="0">
            <a:noFill/>
          </a:ln>
        </p:spPr>
      </p:sp>
      <p:sp>
        <p:nvSpPr>
          <p:cNvPr id="197"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inviting me here today. It’s always a pleasure to meet with other health care professionals, particularly when the idea of a team approach to health care is attracting such interest. </a:t>
            </a:r>
            <a:endParaRPr b="0" lang="en-US" sz="1200" spc="-1" strike="noStrike">
              <a:solidFill>
                <a:srgbClr val="000000"/>
              </a:solidFill>
              <a:latin typeface="Calibri"/>
            </a:endParaRPr>
          </a:p>
        </p:txBody>
      </p:sp>
      <p:sp>
        <p:nvSpPr>
          <p:cNvPr id="19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C4D9CF-493C-48A6-8A86-14A8D400C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8840" y="692280"/>
            <a:ext cx="4616640" cy="3462120"/>
          </a:xfrm>
          <a:prstGeom prst="rect">
            <a:avLst/>
          </a:prstGeom>
          <a:ln w="0">
            <a:noFill/>
          </a:ln>
        </p:spPr>
      </p:sp>
      <p:sp>
        <p:nvSpPr>
          <p:cNvPr id="164"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sician assistant is a graduate of an accredited PA educational program, which involves one year of classroom study followed by two years of clinical rotations. The majority of PA programs award master’s degrees. All programs require students to have completed a minimum of two years of college coursework in pre-medicine type studies prior to program entry and most require students to have health care experience prior to acceptance. To practice. PAs must pass a certification exam through the NCCPA, as well as obtain licensure by the state in which they intend to practice. </a:t>
            </a:r>
            <a:endParaRPr b="0" lang="en-US" sz="1200" spc="-1" strike="noStrike">
              <a:solidFill>
                <a:srgbClr val="000000"/>
              </a:solidFill>
              <a:latin typeface="Calibri"/>
            </a:endParaRPr>
          </a:p>
        </p:txBody>
      </p:sp>
      <p:sp>
        <p:nvSpPr>
          <p:cNvPr id="165"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53422-4940-4AF6-BE29-512A0B1F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8840" y="692280"/>
            <a:ext cx="4616640" cy="3462120"/>
          </a:xfrm>
          <a:prstGeom prst="rect">
            <a:avLst/>
          </a:prstGeom>
          <a:ln w="0">
            <a:noFill/>
          </a:ln>
        </p:spPr>
      </p:sp>
      <p:sp>
        <p:nvSpPr>
          <p:cNvPr id="167"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 profession emerged in the mid-1960s to alleviate a problem of physician maldistribution and to increase the public’s access to quality health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As were former medical corpsmen who wanted to use their medical skills in civilian professions and whom the profession’s founding physicians found to be ideal for PA training . The first class of four PAs graduated from Duke University in 196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there are approximately 75,000 PAs in clinical practice in the United St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CC2A1-902E-462C-8D37-34A3EA6E7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8840" y="692280"/>
            <a:ext cx="4616640" cy="3462120"/>
          </a:xfrm>
          <a:prstGeom prst="rect">
            <a:avLst/>
          </a:prstGeom>
          <a:ln w="0">
            <a:noFill/>
          </a:ln>
        </p:spPr>
      </p:sp>
      <p:sp>
        <p:nvSpPr>
          <p:cNvPr id="170"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their comprehensive responsibilities, PAs conduct physical exams, diagnose and treat illnesses and injuries, order, perform and interpret tests, counsel on preventive health care, assist in surgery, and write prescri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9B91C-DDDC-4F18-AC11-250C8A8F5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692280"/>
            <a:ext cx="4616640" cy="3462120"/>
          </a:xfrm>
          <a:prstGeom prst="rect">
            <a:avLst/>
          </a:prstGeom>
          <a:ln w="0">
            <a:noFill/>
          </a:ln>
        </p:spPr>
      </p:sp>
      <p:sp>
        <p:nvSpPr>
          <p:cNvPr id="173"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 responsibilities depend on the type of practice, his or her experience, the working relationship with physicians and other health care providers, and state la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physician-PA relationship, physician assistants exercise autonomy in medical decision making and provide a broad range of diagnostic and therapeutic services. </a:t>
            </a:r>
            <a:endParaRPr b="0" lang="en-US" sz="1200" spc="-1" strike="noStrike">
              <a:solidFill>
                <a:srgbClr val="000000"/>
              </a:solidFill>
              <a:latin typeface="Calibri"/>
            </a:endParaRPr>
          </a:p>
        </p:txBody>
      </p:sp>
      <p:sp>
        <p:nvSpPr>
          <p:cNvPr id="174"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52548-4415-4F8B-8508-486C70228C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8840" y="692280"/>
            <a:ext cx="4616640" cy="3462120"/>
          </a:xfrm>
          <a:prstGeom prst="rect">
            <a:avLst/>
          </a:prstGeom>
          <a:ln w="0">
            <a:noFill/>
          </a:ln>
        </p:spPr>
      </p:sp>
      <p:sp>
        <p:nvSpPr>
          <p:cNvPr id="176"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 are licensed to practice in all 50 states, the District of Columbia, the Commonwealth of the Northern Mariana Islands, Guam, American Samoa and the U.S. Virgin Islands. They are authorized to prescribe in nearly all of those areas.</a:t>
            </a:r>
            <a:endParaRPr b="0" lang="en-US" sz="1200" spc="-1" strike="noStrike">
              <a:solidFill>
                <a:srgbClr val="000000"/>
              </a:solidFill>
              <a:latin typeface="Calibri"/>
            </a:endParaRPr>
          </a:p>
        </p:txBody>
      </p:sp>
      <p:sp>
        <p:nvSpPr>
          <p:cNvPr id="177"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C2350-9457-4360-97E5-7C3844369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8840" y="692280"/>
            <a:ext cx="4616640" cy="3462120"/>
          </a:xfrm>
          <a:prstGeom prst="rect">
            <a:avLst/>
          </a:prstGeom>
          <a:ln w="0">
            <a:noFill/>
          </a:ln>
        </p:spPr>
      </p:sp>
      <p:sp>
        <p:nvSpPr>
          <p:cNvPr id="179"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au of Labor Statistics predicts that the number of PA jobs will increase 27 percent between 2006 and 2016. By comparison, the total number of jobs in the United States are expected to increase 10 perc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FFE62-629D-42B0-A973-FC08490BE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8840" y="692280"/>
            <a:ext cx="4616640" cy="3462120"/>
          </a:xfrm>
          <a:prstGeom prst="rect">
            <a:avLst/>
          </a:prstGeom>
          <a:ln w="0">
            <a:noFill/>
          </a:ln>
        </p:spPr>
      </p:sp>
      <p:sp>
        <p:nvSpPr>
          <p:cNvPr id="182"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 practice in nearly every medical specialty, and as a profession they focus on diagnosis and procedure, depending on the practice environment. While AAPA doesn’t keep statistics on the frequency of ultrasound use, it’s used by a diagnostic tool by PAs in many specialties, including family and general medicine, general surgery, cardiology, orthopedics, cardiovascular/cardiothoracic surgery, neurology, ob/gyn and urology. </a:t>
            </a:r>
            <a:endParaRPr b="0" lang="en-US" sz="1200" spc="-1" strike="noStrike">
              <a:solidFill>
                <a:srgbClr val="000000"/>
              </a:solidFill>
              <a:latin typeface="Calibri"/>
            </a:endParaRPr>
          </a:p>
        </p:txBody>
      </p:sp>
      <p:sp>
        <p:nvSpPr>
          <p:cNvPr id="183"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7FC42-E80B-4283-95C0-55DF4F34D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8840" y="692280"/>
            <a:ext cx="4616640" cy="3462120"/>
          </a:xfrm>
          <a:prstGeom prst="rect">
            <a:avLst/>
          </a:prstGeom>
          <a:ln w="0">
            <a:noFill/>
          </a:ln>
        </p:spPr>
      </p:sp>
      <p:sp>
        <p:nvSpPr>
          <p:cNvPr id="185"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s are trained to diagnose, and the safety of ultrasound makes it an attractive diagnostic tool. They are eligible to practice in most environments where ultrasound might be utilized. Many CME sessions dealing with various aspects of ultrasound and aimed at PAs are offered by different entities around the country.</a:t>
            </a:r>
            <a:endParaRPr b="0" lang="en-US" sz="1200" spc="-1" strike="noStrike">
              <a:solidFill>
                <a:srgbClr val="000000"/>
              </a:solidFill>
              <a:latin typeface="Calibri"/>
            </a:endParaRPr>
          </a:p>
        </p:txBody>
      </p:sp>
      <p:sp>
        <p:nvSpPr>
          <p:cNvPr id="186" name="Slide Number Placeholder 3"/>
          <p:cNvSpPr/>
          <p:nvPr/>
        </p:nvSpPr>
        <p:spPr>
          <a:xfrm>
            <a:off x="3927600" y="8769240"/>
            <a:ext cx="3004920" cy="462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B695C-8CED-4628-AADF-B2A521228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AE8CF-F78D-4E04-9453-9AF053E28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998D-2CAE-4D8A-8E81-BEE20BD6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587AE-7EAE-486C-BEC1-3F7631064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6808B-DAFA-4CFC-99E7-026C91AAEF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523E3-5430-4E1D-98A5-4436B165F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FFA3D-951F-454B-B6CF-C92827E4F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0CBFC-EA4B-4EFE-A0CF-83F299EFF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F00E5-4443-4EED-A7FD-C54074DF1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B9D6B-4FE0-4277-83C1-D545D3A46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8CEAC-7CFA-4F9F-94AF-983CC6C7E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A87AF-4702-4500-852F-94BC3B7FA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5B47-6158-4F7B-8106-8A7FC2FE8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E6C3F-F470-4581-A390-2823E2A4D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926E4-3A37-413F-B01D-0A393302A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2B6CD-45A7-4EC5-952B-47EFDB6B0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F3AF8-301E-485B-95AF-49ED96A9C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9D045-8131-4068-8B8A-DA7C9D890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D7677A-C688-43F5-9C9E-DBF805CE9F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0BB9A0-48D4-475B-B948-8CBBC26E1F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32BCC6-9B30-4614-981B-65717AAAB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3FAD1-328A-4442-92A5-62DF741934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027CD6-9A18-48D2-91E5-761FDEBCE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F0F1-D445-4403-968E-2638C7A37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B182A-CE37-4315-8C27-A309347B1F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B4828-5FB0-445D-8A57-642900FC3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AA646-E390-4186-AB1E-2BCED3D2C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5D4193-197C-4E71-A680-FCBCED3B58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436C0-B214-40AB-BA44-64E32A068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0E181-59A3-49EA-B662-AB2B5C2035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A9D2E5-58DE-4023-A660-955B5E520B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17515-9239-45EC-9739-0E959146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6EE6A-2C1A-4054-95FF-31670FDB7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AF978-EB7A-4E5B-A8EC-D79207DC7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E0122-17CF-4BB1-B1EE-CA2F631E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F004-E883-498E-BE1F-BC569EA2C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C25B-2CE9-4188-B01D-DC763F267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0B1B8-4A26-41B1-908C-8E9989A24FF0}"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70952-C93E-4892-8EA1-B2E563D7A0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E77D5-A511-4E81-B272-149C56F13227}"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AC180-2A4B-4987-849C-A6A56F1CF4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1E061-0C91-4A56-8DB6-CB7B59358BA2}"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1EBDF-2A97-48D1-8C51-FCC18A4E98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3" descr="Picture1.jpg"/>
          <p:cNvPicPr/>
          <p:nvPr/>
        </p:nvPicPr>
        <p:blipFill>
          <a:blip r:embed="rId2"/>
          <a:stretch/>
        </p:blipFill>
        <p:spPr>
          <a:xfrm>
            <a:off x="0" y="0"/>
            <a:ext cx="9144000" cy="6858000"/>
          </a:xfrm>
          <a:prstGeom prst="rect">
            <a:avLst/>
          </a:prstGeom>
          <a:ln w="0">
            <a:noFill/>
          </a:ln>
        </p:spPr>
      </p:pic>
      <p:sp>
        <p:nvSpPr>
          <p:cNvPr id="131" name="PlaceHolder 1"/>
          <p:cNvSpPr>
            <a:spLocks noGrp="1"/>
          </p:cNvSpPr>
          <p:nvPr>
            <p:ph type="title"/>
          </p:nvPr>
        </p:nvSpPr>
        <p:spPr>
          <a:xfrm>
            <a:off x="685440" y="2130120"/>
            <a:ext cx="792468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American Academy of Physician Assistants</a:t>
            </a:r>
            <a:endParaRPr b="0" lang="en-US" sz="4400" spc="-1" strike="noStrike">
              <a:solidFill>
                <a:srgbClr val="000000"/>
              </a:solidFill>
              <a:latin typeface="Calibri"/>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ea typeface="Arial"/>
              </a:rPr>
              <a:t>Patrick Killeen</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ea typeface="Arial"/>
              </a:rPr>
              <a:t>November 5,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endParaRPr b="0" lang="en-US" sz="4400" spc="-1" strike="noStrike">
              <a:solidFill>
                <a:srgbClr val="000000"/>
              </a:solidFill>
              <a:latin typeface="Calibri"/>
            </a:endParaRPr>
          </a:p>
        </p:txBody>
      </p:sp>
      <p:sp>
        <p:nvSpPr>
          <p:cNvPr id="151"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IUM has identified PAs as emerging users of point-of-care ultras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merican Association of PAs in Obstetrics and Gynecology conducted a member survey, and the results showed ultrasound among the most commonly performed procedur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53" name=""/>
          <p:cNvSpPr txBox="1"/>
          <p:nvPr/>
        </p:nvSpPr>
        <p:spPr>
          <a:xfrm>
            <a:off x="457200" y="1417320"/>
            <a:ext cx="8229600" cy="470844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S. Army PAs have utilized ultrasound in combat zones. In January 2009, nine portable ultrasound machines were sent to Afghanistan.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dustry is taking notice: General Electric in 2009 released the Vscan handheld ultrasound device. GE called primary care physicians and PAs the primary market for the Vscan, as it allows providers to utilize ultrasound without sending patients to a specialist or other location. (</a:t>
            </a:r>
            <a:r>
              <a:rPr b="0" i="1" lang="en-US" sz="3000" spc="-1" strike="noStrike">
                <a:solidFill>
                  <a:srgbClr val="000000"/>
                </a:solidFill>
                <a:latin typeface="Calibri"/>
              </a:rPr>
              <a:t>Associated Press, </a:t>
            </a:r>
            <a:r>
              <a:rPr b="0" lang="en-US" sz="3000" spc="-1" strike="noStrike">
                <a:solidFill>
                  <a:srgbClr val="000000"/>
                </a:solidFill>
                <a:latin typeface="Calibri"/>
              </a:rPr>
              <a:t>10/09</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2002 study of ultrasound-assisted percutaneous liver biopsy concluded that the procedure can be safely and effectively performed by a trained physician assistant. (</a:t>
            </a:r>
            <a:r>
              <a:rPr b="0" i="1" lang="en-US" sz="3200" spc="-1" strike="noStrike">
                <a:solidFill>
                  <a:srgbClr val="000000"/>
                </a:solidFill>
                <a:latin typeface="Calibri"/>
              </a:rPr>
              <a:t>American Journal of Gastroenterology</a:t>
            </a:r>
            <a:r>
              <a:rPr b="0" lang="en-US" sz="3200" spc="-1" strike="noStrike">
                <a:solidFill>
                  <a:srgbClr val="000000"/>
                </a:solidFill>
                <a:latin typeface="Calibri"/>
              </a:rPr>
              <a:t>, 200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cause PAs have a very patient-centered focus and are members of physician-directed teams, PAs will likely find ultrasound increasingly important as it is incorporated into new areas of pract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ofession is in strong support of accessible, patient centered, safe and effective health care that is cost effective and provided by integrated te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130120"/>
            <a:ext cx="792468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American Academy of Physician Assistants</a:t>
            </a:r>
            <a:endParaRPr b="0" lang="en-US" sz="4400" spc="-1" strike="noStrike">
              <a:solidFill>
                <a:srgbClr val="000000"/>
              </a:solidFill>
              <a:latin typeface="Calibri"/>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ea typeface="Arial"/>
              </a:rPr>
              <a:t>Patrick Killeen, President</a:t>
            </a:r>
            <a:endParaRPr b="0" lang="en-US" sz="3200" spc="-1" strike="noStrike">
              <a:solidFill>
                <a:srgbClr val="000000"/>
              </a:solidFill>
              <a:latin typeface="Calibri"/>
            </a:endParaRPr>
          </a:p>
          <a:p>
            <a:pPr indent="0" algn="ctr">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Arial"/>
                <a:ea typeface="Arial"/>
              </a:rPr>
              <a:t>November 5,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Picture 6" descr="Picture2.jpg"/>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Primer on PAs</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ducation and training</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s are graduates of master’s degree-level two- or three-year program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re are currently more than 140 PA programs in the U.S.</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icensing and certification</a:t>
            </a:r>
            <a:endParaRPr b="0" lang="en-US" sz="28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As are certified by the National Commission on Certification of Physician Assistants (NCCPA) and licensed by st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me history…</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A profession emerged in the mid-1960s as a way to increase access to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irst PAs were  former medical corpsmen who wanted to use their  medical skills in civilian lif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 Practice</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ysician assist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duct physical ex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agnose and treat illnesses and inju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der, perform and interpret te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nsel on preventive health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sist in surge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rite prescrip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ysician-PA relationship</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s are licensed to practice medicine with physician supervi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ponsibilities depend on the type of practice, PA’s specific training and experience, physician delegation, facility policy and state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s exercise autonomy in medical decision-making within the physician-PA relatio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ere are PAs found?</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50 states, plus the District of Columbia, the Commonwealth of the Northern Mariana Islands, Guam, American Samoa and the United States Virgin Islands have laws or regulations authorizing PA practic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s are authorized to prescribe in all 50 states, the District of Columbia, Guam, American Samoa and the Commonwealth of the Northern Mariana Islan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 Outlook</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A profession is growing fa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ureau of Labor Statistics predicts that the number of PA jobs will increase 27 percent between 2006 and 2016.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currently more than 75,000 clinically practicing PAs in the 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th means more utilization of ultrasound by PAs is like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s are found in nearly every medical specialty. Specialties where ultrasound might be used include:</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amily/general medic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eneral surge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rdiolog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rthopedic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rdiovascular/cardiothoracic surge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eurolog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b/gy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rology</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s and Ultrasound</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ltrasound is a useful diagnostic tool for PAs, as it does not utilize radiation and therefore carries littl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s are eligible to practice in most environments where ultrasound would be utiliz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ME courses for PAs regularly include ultrasound-related top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4T16:01:32Z</dcterms:created>
  <dc:creator>Rob Redding</dc:creator>
  <dc:description/>
  <dc:language>en-US</dc:language>
  <cp:lastModifiedBy>Alexa Cowger</cp:lastModifiedBy>
  <dcterms:modified xsi:type="dcterms:W3CDTF">2010-11-02T22:26:10Z</dcterms:modified>
  <cp:revision>65</cp:revision>
  <dc:subject/>
  <dc:title>Hi Val</dc:title>
</cp:coreProperties>
</file>